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wmf" ContentType="image/x-wmf"/>
  <Override PartName="/ppt/media/image18.gif" ContentType="image/gif"/>
  <Override PartName="/ppt/media/image4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6C7-E7AA-4DB3-9F6F-DEA71C6F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D0F-B719-46EF-9D22-BE5C5E6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6F6-74F6-4CF1-B59D-89D8BBD7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1F8-C61E-4D01-A48A-E427CF14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952-4C49-42B3-8322-B86A83A3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A24-3E1B-4AE2-AAC8-81E5F2F5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266-EA6C-4C08-9626-42485E8A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755-8322-457F-986D-3E24B3AB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4D1-A25C-495F-A0A4-08499A5B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11B-F4BE-4CDA-B9F0-766F9C67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8C7-C3EB-4DA6-B890-54C5DE3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BB8-A542-4661-83DD-F8224C4C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11FE-BDF9-4F91-BA92-0509E0EED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e2e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11880" y="2060640"/>
            <a:ext cx="257004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60280"/>
            <a:ext cx="5472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T Bold Heading"/>
              </a:rPr>
              <a:t>آداب الطع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273672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92360" y="3797280"/>
            <a:ext cx="52545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2079720" cy="33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1860480" cy="34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344760" cy="383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908000" y="501336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11280" y="469908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635280" y="5013360"/>
            <a:ext cx="1917720" cy="81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00720" y="404640"/>
            <a:ext cx="37432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ـع السلام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80">
                  <a:alpha val="6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5:56:24Z</dcterms:created>
  <dc:creator>User</dc:creator>
  <dc:description/>
  <dc:language>en-US</dc:language>
  <cp:lastModifiedBy>User</cp:lastModifiedBy>
  <dcterms:modified xsi:type="dcterms:W3CDTF">2006-05-17T10:51:45Z</dcterms:modified>
  <cp:revision>7</cp:revision>
  <dc:subject/>
  <dc:title>Slide 1</dc:title>
</cp:coreProperties>
</file>